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4.jpeg" ContentType="image/jpeg"/>
  <Override PartName="/ppt/media/image25.jpeg" ContentType="image/jpeg"/>
  <Override PartName="/ppt/media/image27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wmf" ContentType="image/x-wmf"/>
  <Override PartName="/ppt/media/image19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932988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EEE-98E1-4B0B-8B79-5564A005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674-065C-42E6-9EC7-06E09227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BCB-5DF0-42A8-A5AB-260BF8DC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A7A-81ED-40A2-8755-6353CA5E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1E9-B541-467E-849A-FABDE5A4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D87-97A8-4CB4-B713-38EEBD5D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E2BA-86D0-4FE0-99F9-EED71B3D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DC6-5A5E-4851-8990-57EBDE99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CBB-D3CF-4627-9175-836D6E32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DFC-B077-466F-A0AC-DF2B22AA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DB9-C121-4A4D-88F1-8FCB6C0C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4C6-E707-49F6-851D-3ED189CC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B200-9AA1-42FF-9A1B-2097260CF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0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347400">
            <a:off x="456840" y="685440"/>
            <a:ext cx="7905600" cy="52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"PRACTICAL ENGLISH"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Restaurant Problems!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AEF-E9E0-47D9-9730-C181EB9DBAFC}" type="slidenum">
              <a:t>1</a:t>
            </a:fld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oup or soap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suːp /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</a:t>
            </a:r>
            <a:r>
              <a:rPr b="0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əʊp</a:t>
            </a: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/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o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2924280" cy="2619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0" r="0" b="7874"/>
          <a:stretch/>
        </p:blipFill>
        <p:spPr>
          <a:xfrm>
            <a:off x="1523880" y="3505320"/>
            <a:ext cx="2221200" cy="2611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94E-2E06-4904-A7DD-D6C54F119F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pronounce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752480"/>
            <a:ext cx="73152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prɔːn /</a:t>
            </a:r>
            <a:br>
              <a:rPr sz="96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Prawn’ rhymes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ith ‘yawn’ and ‘corn’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07080" y="1447920"/>
            <a:ext cx="2536920" cy="39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59E-C208-4893-AA4A-5A2DFD0F1B2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pronounce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98108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ˡsæmən /</a:t>
            </a:r>
            <a:br>
              <a:rPr sz="96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</a:t>
            </a:r>
            <a:r>
              <a:rPr b="1" lang="en-GB" sz="6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Sa</a:t>
            </a: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mon’ has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silent 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868-F67B-4086-9C89-199B03F74B2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pronounce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514600"/>
            <a:ext cx="73152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steɪk /</a:t>
            </a:r>
            <a:br>
              <a:rPr sz="9600"/>
            </a:b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Steak’ rhymes with ‘break’ and ‘bake’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989"/>
          <a:stretch/>
        </p:blipFill>
        <p:spPr>
          <a:xfrm>
            <a:off x="6907320" y="1447920"/>
            <a:ext cx="2236680" cy="245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BB6-CC54-4191-88AB-4C6A2E77AB6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pronounce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514600"/>
            <a:ext cx="75438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reə /</a:t>
            </a:r>
            <a:br>
              <a:rPr sz="9600"/>
            </a:br>
            <a:r>
              <a:rPr b="1" lang="en-GB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Rare’ rhymes with ‘care, chair’ and ‘wear’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How to cook steak - pic showing clockwise rare, medium rare, medium and well done cooked steak fillets"/>
          <p:cNvPicPr/>
          <p:nvPr/>
        </p:nvPicPr>
        <p:blipFill>
          <a:blip r:embed="rId1"/>
          <a:srcRect l="0" t="0" r="50481" b="51583"/>
          <a:stretch/>
        </p:blipFill>
        <p:spPr>
          <a:xfrm>
            <a:off x="4419720" y="2209680"/>
            <a:ext cx="3962160" cy="18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968-6733-494B-9A6C-BD7C36101D2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pronounce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981080"/>
            <a:ext cx="73152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təˡmɑːtəʊ /</a:t>
            </a:r>
            <a:br>
              <a:rPr sz="9600"/>
            </a:br>
            <a:r>
              <a:rPr b="1" lang="en-GB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To</a:t>
            </a:r>
            <a:r>
              <a:rPr b="1" lang="en-GB" sz="5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</a:t>
            </a:r>
            <a:r>
              <a:rPr b="1" lang="en-GB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’: the stress is on the long vowel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BF4-7D11-48C0-8C08-6E57D3CA6BE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pronounce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523880"/>
            <a:ext cx="731520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təˡmɑːtəʊ /</a:t>
            </a:r>
            <a:br>
              <a:rPr sz="9600"/>
            </a:br>
            <a:r>
              <a:rPr b="1" lang="en-GB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To</a:t>
            </a:r>
            <a:r>
              <a:rPr b="1" lang="en-GB" sz="5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</a:t>
            </a:r>
            <a:r>
              <a:rPr b="1" lang="en-GB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’: the stress is on the long vowel.</a:t>
            </a:r>
            <a:br>
              <a:rPr sz="5400"/>
            </a:br>
            <a:r>
              <a:rPr b="1" lang="en-GB" sz="4400" spc="-1" strike="noStrike" u="sng">
                <a:solidFill>
                  <a:srgbClr val="0000ff"/>
                </a:solidFill>
                <a:uFillTx/>
                <a:latin typeface="Arial Unicode MS"/>
                <a:ea typeface="Arial Unicode MS"/>
              </a:rPr>
              <a:t>In the USA, </a:t>
            </a:r>
            <a:br>
              <a:rPr sz="4400"/>
            </a:br>
            <a:r>
              <a:rPr b="1" i="1" lang="en-GB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tomato </a:t>
            </a:r>
            <a:r>
              <a:rPr b="1" lang="en-GB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rhymes with</a:t>
            </a:r>
            <a:r>
              <a:rPr b="1" i="1" lang="en-GB" sz="44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 pota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A34-AAF2-4189-B523-5CB7E2ECB30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How do you spell...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9810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‘</a:t>
            </a: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</a:t>
            </a:r>
            <a:r>
              <a:rPr b="1" lang="en-GB" sz="6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</a:t>
            </a: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es’ and ‘po</a:t>
            </a:r>
            <a:r>
              <a:rPr b="1" lang="en-GB" sz="6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ta</a:t>
            </a:r>
            <a:r>
              <a:rPr b="1" lang="en-GB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es’: add ‘es’ for the plura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E96-8AB6-4202-8539-E5842FF3B63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44760" y="1676520"/>
            <a:ext cx="440208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ING A M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A92-D214-4169-967E-5DF010BD5BC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-6812" t="-14202" r="0" b="10226"/>
          <a:stretch/>
        </p:blipFill>
        <p:spPr>
          <a:xfrm>
            <a:off x="1371600" y="1814400"/>
            <a:ext cx="7772400" cy="5043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768320" cy="184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43E-B977-48AC-B283-E3A3BDF4755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16063" r="0" b="0"/>
          <a:stretch/>
        </p:blipFill>
        <p:spPr>
          <a:xfrm>
            <a:off x="380880" y="1905120"/>
            <a:ext cx="4017960" cy="4495680"/>
          </a:xfrm>
          <a:prstGeom prst="rect">
            <a:avLst/>
          </a:prstGeom>
          <a:ln w="254160">
            <a:solidFill>
              <a:srgbClr val="ff99cc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838080" y="304920"/>
            <a:ext cx="77724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GB" sz="7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ˡrestrɒŋ /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000000"/>
                </a:solidFill>
                <a:uFillTx/>
                <a:latin typeface="Arial"/>
              </a:rPr>
              <a:t>res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aur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71F-930B-41FB-89FF-A0FEA517664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66880" y="762120"/>
            <a:ext cx="403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chip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-6812" t="-14202" r="0" b="10226"/>
          <a:stretch/>
        </p:blipFill>
        <p:spPr>
          <a:xfrm>
            <a:off x="1371600" y="1814400"/>
            <a:ext cx="7772400" cy="5043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1768320" cy="184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3F5-5ECB-4BF1-BB47-E4E6A036BC7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UK - US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8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812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ench f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81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080-300C-4336-A15D-51C32D4D98F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62280" y="2048040"/>
            <a:ext cx="6381720" cy="4870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768320" cy="184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B35-FCEC-41DC-BA4D-4C35CED9B8E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14600" y="45720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crisp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62280" y="2048040"/>
            <a:ext cx="6381720" cy="4870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768320" cy="184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ECB-3B66-4920-B705-54E0BADE00A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UK - US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8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s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812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rench f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ato 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81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261-9B44-423A-A69F-78FF5A57F15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14600" y="45720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the bi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768320" cy="1841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276720" y="2057400"/>
            <a:ext cx="307152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E380-FB5B-4AD1-90A0-244F161791E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UK - US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8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ris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b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812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rench f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tato 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81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84A-0B45-46C3-BB63-A638A0BC29E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 cheq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133360" cy="2222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838188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6B3-1CD3-455B-B4C7-3B3572AAB64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UK - US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8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ris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b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he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812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rench f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tato 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81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B15-5222-42D1-AAB9-85556BEF374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14600" y="45720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a 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  <a:ea typeface="Arial"/>
              </a:rPr>
              <a:t>£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20 no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1768320" cy="1841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19320" y="2576520"/>
            <a:ext cx="7924680" cy="42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1C9-5E90-471E-92D2-2FDC418DFD7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572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 u="sng">
                <a:solidFill>
                  <a:srgbClr val="000000"/>
                </a:solidFill>
                <a:uFillTx/>
                <a:latin typeface="Arial"/>
              </a:rPr>
              <a:t>prob</a:t>
            </a: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lems</a:t>
            </a:r>
            <a:r>
              <a:rPr b="1" lang="en-GB" sz="7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7200"/>
            </a:br>
            <a:r>
              <a:rPr b="1" lang="en-GB" sz="7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ˡprɒbləmz 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5907" t="18507" r="5907" b="6169"/>
          <a:stretch/>
        </p:blipFill>
        <p:spPr>
          <a:xfrm>
            <a:off x="5943600" y="3048120"/>
            <a:ext cx="2673360" cy="2189160"/>
          </a:xfrm>
          <a:prstGeom prst="rect">
            <a:avLst/>
          </a:prstGeom>
          <a:ln w="76320">
            <a:solidFill>
              <a:srgbClr val="ff99cc"/>
            </a:solidFill>
            <a:miter/>
          </a:ln>
        </p:spPr>
      </p:pic>
      <p:pic>
        <p:nvPicPr>
          <p:cNvPr id="46" name="" descr="[Fly+in+soup.bmp]"/>
          <p:cNvPicPr/>
          <p:nvPr/>
        </p:nvPicPr>
        <p:blipFill>
          <a:blip r:embed="rId2"/>
          <a:srcRect l="9085" t="2362" r="9085" b="2362"/>
          <a:stretch/>
        </p:blipFill>
        <p:spPr>
          <a:xfrm>
            <a:off x="533520" y="3809880"/>
            <a:ext cx="4952880" cy="221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0E2-7B7F-4453-B857-30ABDCB984C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UK - US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8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ris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b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che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n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812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rench f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tato 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81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015-EA00-4AF8-8183-DE2C316BC42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a takea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10630" t="14079" r="10630" b="14079"/>
          <a:stretch/>
        </p:blipFill>
        <p:spPr>
          <a:xfrm>
            <a:off x="1219320" y="1676520"/>
            <a:ext cx="2746080" cy="1892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3" name="" descr="Thames Take Away"/>
          <p:cNvPicPr/>
          <p:nvPr/>
        </p:nvPicPr>
        <p:blipFill>
          <a:blip r:embed="rId2"/>
          <a:stretch/>
        </p:blipFill>
        <p:spPr>
          <a:xfrm>
            <a:off x="4343400" y="2590920"/>
            <a:ext cx="4267080" cy="3200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943600" y="304920"/>
            <a:ext cx="1695600" cy="176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09480" y="3962520"/>
            <a:ext cx="3391200" cy="2155680"/>
          </a:xfrm>
          <a:prstGeom prst="rect">
            <a:avLst/>
          </a:prstGeom>
          <a:ln w="57240">
            <a:solidFill>
              <a:srgbClr val="ff99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AC8-315C-4215-9679-0D96BFCC6E4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food to 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20071026_hollywoodChB0762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1490760"/>
            <a:ext cx="7810560" cy="5367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7E3-F9BD-493D-96A1-AEDC3BEF65B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UK - US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58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ris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b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che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n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akea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58128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rench f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otato c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 bi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od to 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768320" cy="1841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362320" cy="1681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2A7-B775-4DDB-AAD4-39679BA9B2D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44760" y="1676520"/>
            <a:ext cx="4402080" cy="4572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A M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8FE-BD77-4EE3-83F1-83A0A3CF060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ffers: helping and rea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roblem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’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’m very sorry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’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 it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apologise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’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you a new b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16063" r="0" b="0"/>
          <a:stretch/>
        </p:blipFill>
        <p:spPr>
          <a:xfrm>
            <a:off x="5867280" y="3048120"/>
            <a:ext cx="2656080" cy="2971800"/>
          </a:xfrm>
          <a:prstGeom prst="rect">
            <a:avLst/>
          </a:prstGeom>
          <a:ln w="254160">
            <a:solidFill>
              <a:srgbClr val="ff99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90C-2F0C-4087-A4C5-2FA6B2E5A5A7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star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er, main course, de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ssert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552920"/>
            <a:ext cx="346716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62320" y="2590920"/>
            <a:ext cx="3848040" cy="2705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15000" y="14479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1600200"/>
            <a:ext cx="3200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 and ham s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berland sa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tt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548640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dɪˡzɜːt /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695-C6C9-4CC6-AC50-A70360383B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152360" y="-385920"/>
            <a:ext cx="11448720" cy="7629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de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591-9EB5-42FE-B650-5CA5449DB0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grill, bake, f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286680" y="144792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905280"/>
            <a:ext cx="276228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819520" y="2666880"/>
            <a:ext cx="3429000" cy="2606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4"/>
          <a:srcRect l="26455" t="11338" r="26455" b="11338"/>
          <a:stretch/>
        </p:blipFill>
        <p:spPr>
          <a:xfrm>
            <a:off x="6248520" y="1447920"/>
            <a:ext cx="898560" cy="1473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1447920"/>
            <a:ext cx="556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a baked potato =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a jacket spud</a:t>
            </a:r>
            <a:br>
              <a:rPr sz="4000"/>
            </a:b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(in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4343400"/>
            <a:ext cx="2361960" cy="1981080"/>
          </a:xfrm>
          <a:prstGeom prst="upArrowCallout">
            <a:avLst>
              <a:gd name="adj1" fmla="val 9936"/>
              <a:gd name="adj2" fmla="val 13705"/>
              <a:gd name="adj3" fmla="val 16667"/>
              <a:gd name="adj4" fmla="val 53251"/>
            </a:avLst>
          </a:prstGeom>
          <a:solidFill>
            <a:srgbClr val="dddddd"/>
          </a:solidFill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a frying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458-2535-4378-9233-7A9AF5A0FF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ff"/>
                </a:solidFill>
                <a:uFillTx/>
                <a:latin typeface="Arial"/>
              </a:rPr>
              <a:t>mush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room, prawn, stea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330720" y="2057400"/>
            <a:ext cx="2536560" cy="3909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54740" t="0" r="0" b="52658"/>
          <a:stretch/>
        </p:blipFill>
        <p:spPr>
          <a:xfrm>
            <a:off x="0" y="3352680"/>
            <a:ext cx="3349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0" t="0" r="0" b="989"/>
          <a:stretch/>
        </p:blipFill>
        <p:spPr>
          <a:xfrm>
            <a:off x="5867280" y="1447920"/>
            <a:ext cx="3276720" cy="36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7C6-BBCE-4F03-868C-604C8C1A1E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How to cook steak - pic showing clockwise rare, medium rare, medium and well done cooked steak fillets"/>
          <p:cNvPicPr/>
          <p:nvPr/>
        </p:nvPicPr>
        <p:blipFill>
          <a:blip r:embed="rId1"/>
          <a:stretch/>
        </p:blipFill>
        <p:spPr>
          <a:xfrm>
            <a:off x="609480" y="2209680"/>
            <a:ext cx="8001000" cy="3845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rare, medium, well d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594360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medium</a:t>
            </a: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ll d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144792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7c80"/>
                </a:solidFill>
                <a:latin typeface="Arial"/>
              </a:rPr>
              <a:t>rare</a:t>
            </a:r>
            <a:r>
              <a:rPr b="1" lang="en-US" sz="4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medium r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3B1-030F-4CEE-9771-CF74D0DA60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ff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Soup or soap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2924280" cy="2619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0" r="0" b="7874"/>
          <a:stretch/>
        </p:blipFill>
        <p:spPr>
          <a:xfrm>
            <a:off x="1523880" y="3505320"/>
            <a:ext cx="2221200" cy="26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B8E-0B73-499E-96EA-90723AE92C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Ángela</cp:lastModifiedBy>
  <dcterms:modified xsi:type="dcterms:W3CDTF">2011-11-21T17:06:35Z</dcterms:modified>
  <cp:revision>1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